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00E-303C-4983-8872-37B7876B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4E7-6A1E-4BB9-A703-1C9C5097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32A-997C-4659-9F44-DB1A3020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692-7571-4939-B802-8C98C7D4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A9C-4140-4B45-9CC4-8BAC95E9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49C-BC55-497C-B32D-2356860F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4D4-D849-4563-AF06-6654BB14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CCB-AD7C-4B71-8ADA-BC0773FE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356-5ADF-4B32-9F8C-F435A4DE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C83-F848-4089-8319-94C0257B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6CD-14E7-4AE4-92AC-97AFFB68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FE9-DB6E-4C9F-95AB-F7F0FABE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4558-DCF2-416E-B2F9-BEFEF0963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8:23:58Z</dcterms:created>
  <dc:creator>Grupo Editorial</dc:creator>
  <dc:description/>
  <dc:language>en-US</dc:language>
  <cp:lastModifiedBy>Grupo Editorial</cp:lastModifiedBy>
  <dcterms:modified xsi:type="dcterms:W3CDTF">2001-09-28T08:26:33Z</dcterms:modified>
  <cp:revision>1</cp:revision>
  <dc:subject/>
  <dc:title>Sin título de diapositiva</dc:title>
</cp:coreProperties>
</file>